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334-943A-447D-B826-55728B2E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90A-AE47-4418-BD06-455EFAA4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A50-946F-4901-A22F-F211303A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the first image in and then bring in the second highlighting the fact that using OR bring up more search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0183-ECAA-4656-A0E1-A95CDCDE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just the left hand side should be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4A4-304F-4BC1-BF33-A5E55B06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DE10-ACE2-4DDD-9EEA-CC1DBE79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02D-D6BD-40B5-BB8E-ACCA38D3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7F55-5B9D-4DBD-AD2F-B4057243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DCD8-24B3-4FD8-9ACF-FBA1E92D6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31A-4801-4406-B226-39D4B61D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390B-1519-4AFF-A8E8-1BAD37E4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B878-7C19-4C84-AAA4-2620F89ED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B6C-ACEE-418F-A6CC-BDB2E1E3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the first image in and then bring the second image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AB30-E70D-4028-BE2C-8BD3B28F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tire image should be highligh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B99-B5C9-4FC0-BB2F-D10FD608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C97-188D-412A-8A4F-D035024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4DC-ECE0-44A1-BE15-F174D57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35AF-8408-410D-9F74-9ACD929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A3F6-950A-4E61-BC7B-D1DE029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1CC85-90E6-40CD-B485-193F171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E8A27-B9AA-441A-A1BB-3813A34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7BAA-A79E-4287-8232-6AD6754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A4A23-5AE9-430E-AFDE-093FF3FD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4B62-0421-48D0-91B2-4EABB3BC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3A59B-EAB4-45EA-A8F0-75EFD9CA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145C-EBF9-415C-B31A-84B212D5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A2E1-378E-4F3A-8A11-EB8261A2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6AE-3395-4E3A-B341-D017418D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C98DF-D122-415A-BF52-4F9CCEF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6B2B-C9AC-4C00-80F7-7318B667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656D-C02C-48A5-BB76-56C4136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A7D3B-0159-4427-BE86-54B45EA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C4F0C-ED91-4208-8B27-10C9BCB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35DC-C844-49BC-A04E-E3F2A8B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04F53-22F4-426D-8EEB-86D41986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70AD-7FD8-4BB4-A180-3D58F9F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0BD5-D1C7-4195-B1DF-854056D3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91234-040E-4D50-8D98-981DA865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629-4554-4905-BFED-F03C3FEB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1707-489C-4C47-B252-823A0E7C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676F4-3EC4-4580-9396-D270DF20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185B5-4440-48DF-BF62-464EA612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3E399-B7D4-4330-A47E-CD6522D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53BB9-7650-4179-A23C-963F676E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01D0E-5DCC-48D8-A8A6-353C3ED7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FB32D-9C7B-46F0-9AC9-3D57F90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5D36-7CBB-455A-A858-FCB9F4B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0410D-E8E8-48BD-AEB3-AFA5E14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D2A87-D10B-477F-A778-E4D3C8E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31E1-4BDE-4CB2-A9CA-4FDCC966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CFC13-E14D-4D73-B2EF-A4AA3067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D20C5-8306-4CAE-9319-32EA43C8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61DE1-A776-430E-B2ED-595957CC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292-0E17-41A7-8FB3-95DAE00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975B-9520-4E01-82FB-F372D89A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7449-8A92-4C3D-99EA-45AA38E7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D20E-D1CD-4D6D-BDAB-BBE6870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0CB7-D910-4C97-A54B-B1CE7993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1EE5-CCF3-451D-888C-7476845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45E-3638-4046-B79D-2C1A341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439-198B-4D6C-B318-F45631A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8F5-CAAC-4517-9332-740FC73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9D76-6995-4B0E-85E5-4C887AA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4BA-E302-4169-9256-578511A7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473A-E24C-4D4C-9DD7-434504FE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7DB-C2F1-4581-B32E-80D70C4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CE1-D755-4D96-95AB-CFDAB88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0B75-BB1C-42B1-9A6C-9AD6E56D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FCE-7825-4425-ADD5-94E8A05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8FC1-A2FB-4638-873A-E7CB704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3813-41DA-4899-B19E-0E3465B1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2CA1-B02E-4719-8B11-8A3A1A63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9FFC-D647-4D46-8A88-F5184C2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7FB3-208B-406C-80E5-A4AF0E95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AA89-A144-4E4A-AE5A-58DC9753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10D0-4404-413E-8046-4661A777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8C61-A067-461D-AD6C-67889D9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2D78-3BAB-464C-81BB-20B83C72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4515-C4B6-4BD9-8943-FF030A49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9C0-696A-4516-B2A3-808527A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149F-4549-49D1-A95E-24BA3D05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7B00-FBA3-4DB1-8F07-2455F2AE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9DBD-E0FC-423C-A6A7-DA8DE395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9E9D-6164-4AEC-AFB1-14D47F82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F9BF-C5E3-42DB-8D89-BDC29EC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A8E0-C2BF-4310-9BA7-D88EC25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E862-9DDA-4ED3-8289-9DB2CB9C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553F-5C08-4DBB-BF8D-60BA8998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7DF1-1559-4ED9-BC83-91AE9CF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B942-A9B3-4CCA-98E4-67255451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5D4-3CF3-488E-9534-ED2EB6B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F848-E5FD-4074-A631-A2D2999F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6C0F-1751-4A92-82B0-686971F1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3944-0165-4C13-9D45-3402A844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0B4E-C412-4C25-99AF-178B8C5B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449E-057F-4749-843F-3A07014D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95A9-6C09-46E3-83B1-F20D606C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A15A-B5D2-48F6-939A-7E2F372D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1C83-31B3-4D49-8600-89D023AD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D424-DD2A-468D-B6EF-8E7041BB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9AD6-F029-45FA-B9E9-03AD180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48E-8BB5-4D13-88BB-F1CE6D8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9C3E-4D0B-41C8-9DF8-D47A4EE0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0B9E-9B84-4768-BB28-DE9ADC2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A6D1-F8EA-475A-92EA-733D5CE4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C73B-1646-4E5E-AC58-817E63CF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BCE75-6847-4978-A232-39A547BB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DA25D-A220-4016-A501-BD152607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FDF3C-C5C2-470A-821F-417EE40D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7104-D876-4D98-BAD0-6867325E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24198-606B-45E3-8622-21D70E49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6CD9-8404-4965-AE23-9AC4694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248-51DE-4254-A551-8346D1C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EC61-BB16-4313-B6F6-F173E22F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A759-29B9-4A87-A253-5C0C4C3C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D512-8F42-4250-88E9-A0D0D9E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50B5-DA7E-479B-A746-863F223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D224-3ACB-4975-9395-B5E5CFFD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DC163-C9C2-448F-B309-3FCFEB91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4D42-9D47-4A47-BC45-74E6061D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D74E-EC8F-461C-834D-73F43841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2855-2CCF-47DF-AA43-421C4F04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5B994-53BE-434F-968C-AA8AC334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FAF-15F7-48D0-870F-4F2890B8D8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37B-2F63-4436-B808-F5347F4A5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51D0-7FCA-496E-8526-4891A84A1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FB20-F13D-4DF9-855B-28BA43021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8514-AA8E-43DD-842D-09BB3FC4D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21A8-21C5-4267-AA6F-5BD9C48E9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F48D-9566-40F3-A8CF-7A435F08A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254-BACD-4F45-90B3-647114719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D2DB-B69D-4D0B-BEED-14D6F4D65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bjective:  Students will understand Boolean operators and how they function when searching for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" descr="SATACT.jpg"/>
          <p:cNvPicPr/>
          <p:nvPr/>
        </p:nvPicPr>
        <p:blipFill>
          <a:blip r:embed="rId1"/>
          <a:stretch/>
        </p:blipFill>
        <p:spPr>
          <a:xfrm>
            <a:off x="1371600" y="1224000"/>
            <a:ext cx="6400800" cy="487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SATAlone.jpg"/>
          <p:cNvPicPr/>
          <p:nvPr/>
        </p:nvPicPr>
        <p:blipFill>
          <a:blip r:embed="rId1"/>
          <a:stretch/>
        </p:blipFill>
        <p:spPr>
          <a:xfrm>
            <a:off x="152280" y="609480"/>
            <a:ext cx="4324320" cy="40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3" name="Picture 2" descr="ORSATACT.jpg"/>
          <p:cNvPicPr/>
          <p:nvPr/>
        </p:nvPicPr>
        <p:blipFill>
          <a:blip r:embed="rId2"/>
          <a:stretch/>
        </p:blipFill>
        <p:spPr>
          <a:xfrm>
            <a:off x="4038480" y="2362320"/>
            <a:ext cx="4876920" cy="405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s your search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you want to exclude a keyword from your search.  Cheating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ll find results with the word Cheating, but will exclude any results with the word 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795320" y="2743200"/>
            <a:ext cx="5553360" cy="3171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715000" y="42051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1981080" y="4205160"/>
            <a:ext cx="17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609480" y="5934240"/>
            <a:ext cx="74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y records with the word cheating that do not include the word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found (the green area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NOTcheatingtest.jpg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523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9" descr=""/>
          <p:cNvPicPr/>
          <p:nvPr/>
        </p:nvPicPr>
        <p:blipFill>
          <a:blip r:embed="rId1"/>
          <a:stretch/>
        </p:blipFill>
        <p:spPr>
          <a:xfrm>
            <a:off x="4808520" y="2057400"/>
            <a:ext cx="3886200" cy="36860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can also combine Boolea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ting AND (ACT OR S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earch would find results containing either ACT or SAT or both words (the red &amp; purple areas) AND those areas that overlap with cheating (the purple area).  So this sear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r search to include both tests and th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results to include just those articles that contain the word chea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2"/>
          <p:cNvSpPr/>
          <p:nvPr/>
        </p:nvSpPr>
        <p:spPr>
          <a:xfrm>
            <a:off x="637056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4572000" y="441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>
            <a:off x="7620120" y="44276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olean operators are an effective tool when searching article databases, library catalogs, and search engin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0" y="3352680"/>
            <a:ext cx="5067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rrows you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roadens you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rrows you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"/>
          <p:cNvSpPr/>
          <p:nvPr/>
        </p:nvSpPr>
        <p:spPr>
          <a:xfrm flipH="1">
            <a:off x="319968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log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logic is named for            mathematician  George Boole who         defined the system of logical operation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operators are often used when searching article databases, library catalogs, and search engines.  The operators show a relationship between keywords in a sea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1550880" cy="152064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"/>
          <p:cNvSpPr/>
          <p:nvPr/>
        </p:nvSpPr>
        <p:spPr>
          <a:xfrm>
            <a:off x="6958080" y="2362320"/>
            <a:ext cx="1676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taken from http://www.encyclopedia.com/topic/George_Boole.asp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hree Boolean operators ar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80880" y="42670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olean operators are used to expand or limit the number of results in a 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agrams visually explain how Boolean operators 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52280" y="57913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olean operators to connect and search for the keywords found in your resear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1981080" y="1130400"/>
            <a:ext cx="508176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AndSIRS.jpg"/>
          <p:cNvPicPr/>
          <p:nvPr/>
        </p:nvPicPr>
        <p:blipFill>
          <a:blip r:embed="rId1"/>
          <a:stretch/>
        </p:blipFill>
        <p:spPr>
          <a:xfrm>
            <a:off x="914400" y="1905120"/>
            <a:ext cx="7262640" cy="451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020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example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IRS Knowledge Sourc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s them to perform advanced search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762120" y="52236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vanced Sear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uses Boolean op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googleBoolean.jpg"/>
          <p:cNvPicPr/>
          <p:nvPr/>
        </p:nvPicPr>
        <p:blipFill>
          <a:blip r:embed="rId1"/>
          <a:stretch/>
        </p:blipFill>
        <p:spPr>
          <a:xfrm>
            <a:off x="762120" y="1600200"/>
            <a:ext cx="7381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narrows your search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hen you want your results to include all terms 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1400760" y="603396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records with both terms will be found (the purple area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"/>
          <p:cNvPicPr/>
          <p:nvPr/>
        </p:nvPicPr>
        <p:blipFill>
          <a:blip r:embed="rId1"/>
          <a:stretch/>
        </p:blipFill>
        <p:spPr>
          <a:xfrm>
            <a:off x="1608120" y="2514600"/>
            <a:ext cx="6000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cheatingSIRS.jpg"/>
          <p:cNvPicPr/>
          <p:nvPr/>
        </p:nvPicPr>
        <p:blipFill>
          <a:blip r:embed="rId1"/>
          <a:stretch/>
        </p:blipFill>
        <p:spPr>
          <a:xfrm>
            <a:off x="115920" y="685800"/>
            <a:ext cx="6404040" cy="356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6" name="Picture 2" descr="cheatingSAT.jpg"/>
          <p:cNvPicPr/>
          <p:nvPr/>
        </p:nvPicPr>
        <p:blipFill>
          <a:blip r:embed="rId2"/>
          <a:stretch/>
        </p:blipFill>
        <p:spPr>
          <a:xfrm>
            <a:off x="2362320" y="2666880"/>
            <a:ext cx="631656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adens your search.  Us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searching synonyms and closely related keywords. 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find results with one term or the other or both (the entire green are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795320" y="2971800"/>
            <a:ext cx="5553360" cy="31910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3"/>
          <p:cNvSpPr/>
          <p:nvPr/>
        </p:nvSpPr>
        <p:spPr>
          <a:xfrm>
            <a:off x="2286000" y="4243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638680" y="4199040"/>
            <a:ext cx="8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05:52Z</dcterms:created>
  <dc:creator>Operator</dc:creator>
  <dc:description/>
  <dc:language>en-US</dc:language>
  <cp:lastModifiedBy>Laurel Harris</cp:lastModifiedBy>
  <dcterms:modified xsi:type="dcterms:W3CDTF">2013-01-28T20:45:52Z</dcterms:modified>
  <cp:revision>102</cp:revision>
  <dc:subject/>
  <dc:title>Objective:</dc:title>
</cp:coreProperties>
</file>